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3360" cy="37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24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577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577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577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577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085DB-F8F0-4A7A-8747-8FF9BA2EA5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D0C-44ED-4462-A1E7-78D564E1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748C-58A2-4267-A80D-737066C7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8B4-DE75-4D8E-BE6B-A15BDC80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47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265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47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265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F966-0D38-4755-A4F6-D4346D90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542C-8CB0-46D5-85CE-52DED1B4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0F3-7CD1-4AFF-9124-089BD739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816B-6135-425C-8D02-AA52D737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A02-BC85-4323-BA72-431E3A07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5508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1FBE-574D-4EFE-9C29-743E723F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E12-102F-4F7E-8C58-0659968A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759-5468-4143-86E8-CD47DCD9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C2E2-9411-4FCF-BF91-91114B13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1284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1240" indent="-21276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0160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4880" indent="-20340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4880" indent="-20340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4880" indent="-20340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n Wi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98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FMeetup Aug 28, 2008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DC7B4-C18E-4C3B-8E72-4EADAE08FB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6819840"/>
            <a:ext cx="2838600" cy="72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9920" y="447840"/>
            <a:ext cx="9070920" cy="2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Refactoring to Object Oriented Programming in  ColdFu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29920" y="2971440"/>
            <a:ext cx="9070920" cy="33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849240" indent="0" algn="ctr">
              <a:lnSpc>
                <a:spcPct val="93000"/>
              </a:lnSpc>
              <a:buNone/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 algn="ctr">
              <a:lnSpc>
                <a:spcPct val="93000"/>
              </a:lnSpc>
              <a:buNone/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n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 algn="ctr">
              <a:lnSpc>
                <a:spcPct val="93000"/>
              </a:lnSpc>
              <a:buNone/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 algn="ctr">
              <a:lnSpc>
                <a:spcPct val="93000"/>
              </a:lnSpc>
              <a:buNone/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ugust 28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 algn="ctr">
              <a:lnSpc>
                <a:spcPct val="93000"/>
              </a:lnSpc>
              <a:buNone/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6:00 P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el View Contro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12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VC provides layered separation in the  ap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siness objects handle business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VC makes customizing the screens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VC prepares the way to support other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29200" y="2009880"/>
            <a:ext cx="497196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12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factory object creates other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mizes Hard Coded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s it easy to trim dea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25840" cy="50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12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endency Injection provides a way to add dependen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ependencies between objects are easily visible and underst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ension is achieved very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a blueprint of object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41148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12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and objects provide a consistent interface for actions in the ap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eps the responsibilities of the object consistent and well def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s a great extension point for fu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695920" y="1828800"/>
            <a:ext cx="3905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12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 Access Objects provide a layer for managing the persistence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h single and multiple table 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3886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Re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12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ap conditional logic into reusabl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ll application details into a configuratio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0120" y="4343400"/>
            <a:ext cx="877248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 Not Slavishly Apply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8915400" cy="56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d Procedural with 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ed at common patterns in 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ed at code Pre and Post Re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vered Gremlin avo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y Company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datacur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y Blog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nodan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commended Reading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factoring To Patterns - Joshua Kerievs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ad First Design Patterns – Freeman &amp; Free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326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to get from Procedural Architecture to Object 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610320" y="2057400"/>
            <a:ext cx="3219480" cy="3886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2057400"/>
            <a:ext cx="594360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54403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you would like to know how to migrate an existing procedurally programmed application into an object oriented one, grab a chair and sit for a whil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e'll discuss some sensible guidelines designed to help you make incremental changes towards OO nirva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e'll also look at lots of code samples, we all like code samples, righ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is Dan Wil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6200" y="1828800"/>
            <a:ext cx="59436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ldFusion Programmer since 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 Managing Board of TACFU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log @ nodans.com, dzon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incipal Partner of DataCurl L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senter at 360|Flex, CF.Objective(), User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urfer, Snowboarder, Volleyball play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or Typist, Poorer Guitar Play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great steering wheel player... trust me!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0351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the next 50 minute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9520" y="2743200"/>
            <a:ext cx="9601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and Contrast procedural/OO development (10 minute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view of Refactoring process (10 minute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actoring into Patterns some examples  (15 minute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l Thoughts (5 minute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ion and Answer (10 Minute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the heck is Object 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494160" cy="49896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75360" y="2742840"/>
            <a:ext cx="4425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et O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tell me what to do or how to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haviour over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es OO code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371600"/>
            <a:ext cx="9601200" cy="1828800"/>
          </a:xfrm>
          <a:prstGeom prst="rect">
            <a:avLst/>
          </a:prstGeom>
          <a:solidFill>
            <a:srgbClr val="e6e6e6"/>
          </a:solidFill>
          <a:ln w="7308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4572000"/>
            <a:ext cx="9601200" cy="2057400"/>
          </a:xfrm>
          <a:prstGeom prst="rect">
            <a:avLst/>
          </a:prstGeom>
          <a:solidFill>
            <a:srgbClr val="e6e6e6"/>
          </a:solidFill>
          <a:ln w="7308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3429000"/>
            <a:ext cx="927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c5000b"/>
                </a:solidFill>
                <a:latin typeface="Arial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1581120"/>
            <a:ext cx="95997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849240" indent="-282600">
              <a:lnSpc>
                <a:spcPct val="87000"/>
              </a:lnSpc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cfif isNumeric( UserID )  AND structKeyExists( user, “isloggedin”) AND user.isLoggedIn IS “true”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87000"/>
              </a:lnSpc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You are logged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87000"/>
              </a:lnSpc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cfels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87000"/>
              </a:lnSpc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t Logged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87000"/>
              </a:lnSpc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/cfif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49480" y="5029200"/>
            <a:ext cx="4137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849240" indent="-282600">
              <a:lnSpc>
                <a:spcPct val="87000"/>
              </a:lnSpc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cfif user.isLoggedIn()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87000"/>
              </a:lnSpc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You Are Logged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87000"/>
              </a:lnSpc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cfels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87000"/>
              </a:lnSpc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t Logged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87000"/>
              </a:lnSpc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/cfif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alyze refactoring your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the skills in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have you had problems in the code bef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much refactoring can you do at a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you anticipate your application changing over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sk vs Re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two kinds of applications, Perfect ones and Finished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se Version Contro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12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sion Control gives you a way out, if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te off more than you can ch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nge your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eak something bi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using version control will hurt you sooner or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on ColdFusion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2514240"/>
            <a:ext cx="442584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V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91280" y="1828800"/>
            <a:ext cx="3409920" cy="452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Wilson</dc:creator>
  <dc:description/>
  <dc:language>en-US</dc:language>
  <cp:lastModifiedBy>Dan Wilson</cp:lastModifiedBy>
  <cp:revision>0</cp:revision>
  <dc:subject/>
  <dc:title/>
</cp:coreProperties>
</file>