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54B26-CDAA-41D7-86F6-D751CF563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47C-8CBF-4572-96DA-E42CE7B2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B34-403A-41CB-AFAD-0BDFBAB5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56B-4498-4EDF-978F-49A7F51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120-EE16-4F71-BE9A-9CD7B2E2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86E-82FE-485B-99D5-EC3AB018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13F-ED6C-49B1-8A9A-0A91B98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699-F58D-48BC-9A1B-DD69CC7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956-4D38-40A1-AC68-91F798F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8DF-B19C-4D13-8117-A544E035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3E6-D286-4794-B4E7-465B08D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725-F482-4A94-B273-FEF0B91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C48-3220-476A-8EFE-C354E93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Underground 200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21C50-95BE-41EC-B14F-0E3148D99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44784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Practical Refact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29920" y="2285640"/>
            <a:ext cx="907092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FUndergrou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an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v 1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:00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326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ractical Re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10320" y="205740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2057400"/>
            <a:ext cx="5943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54403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deal with an existing code base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would like to rid yourself of confusing code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f you work on applications with a long lifespa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Then Practical Refactoring Is For you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Besides, I've got lots of code samples... aren't those fu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ColdFusion Programmer since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n Managing Board of TACF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Blog @ nodans.com, dzon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incipal Partner of DataCurl L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esenter at 360|Flex, CF.Objective(), Use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Surfer, Snowboarder, Volleyball p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oor Typist, Poorer Guitar Play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How do you refac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factor in small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uild some sort of a test, before yo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y foc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version contr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factored Code is Si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527040"/>
                <a:tab algn="l" pos="984240"/>
                <a:tab algn="l" pos="1441440"/>
                <a:tab algn="l" pos="1898640"/>
                <a:tab algn="l" pos="2355840"/>
                <a:tab algn="l" pos="2813040"/>
                <a:tab algn="l" pos="3270240"/>
                <a:tab algn="l" pos="3727440"/>
                <a:tab algn="l" pos="4184640"/>
                <a:tab algn="l" pos="4641840"/>
                <a:tab algn="l" pos="5099040"/>
                <a:tab algn="l" pos="5556240"/>
                <a:tab algn="l" pos="6013440"/>
                <a:tab algn="l" pos="6470640"/>
                <a:tab algn="l" pos="6927840"/>
                <a:tab algn="l" pos="7385040"/>
                <a:tab algn="l" pos="7842240"/>
                <a:tab algn="l" pos="8299440"/>
                <a:tab algn="l" pos="8756640"/>
                <a:tab algn="l" pos="921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re are two kinds of applications, Perfect ones and Fin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Ok Ok, Shut Up and Show Us Co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3657240"/>
            <a:ext cx="42703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e Code Colu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y Blog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ttp://www.nodan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Recommended Reading: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efactoring To Patterns - Joshua Kerievs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Head First Design Patterns – Freeman &amp; Fre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