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012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19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59C24-88A5-409D-AA07-96E2CD0267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4591-72F2-4180-8CFA-8C114FBA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36428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8BD8-1E5A-4503-86BF-DAA3C231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18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4A79-1317-45B2-B4A0-70DC3EF7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400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2472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400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2472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7E45-6351-4DA2-9E0D-22BAC49A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9347-F630-4D37-A41C-2FA21582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FB47-1205-4EAB-A45F-4E3C5984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56EE-B5A8-4C9F-841F-4FFAFED9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2ECB-07E3-475F-84FF-8AB83B4D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5184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AC71-955E-4148-8FE9-083F69AE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0132-DA74-420B-B581-78704BFD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18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5A5C-109F-4A1C-9866-6678D062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A39-9E09-4537-AB58-526C65A5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4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4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4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198360">
              <a:lnSpc>
                <a:spcPct val="4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41640" indent="-200160">
              <a:lnSpc>
                <a:spcPct val="4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41640" indent="-200160">
              <a:lnSpc>
                <a:spcPct val="4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41640" indent="-200160">
              <a:lnSpc>
                <a:spcPct val="4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28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n Wi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766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F Online Meetup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2920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977DA-B6D7-452E-B37E-E1E9491048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6819840"/>
            <a:ext cx="2838600" cy="72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9920" y="406440"/>
            <a:ext cx="9070920" cy="23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CFUniform: Build Feature-Rich Forms in ColdFu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29920" y="2971440"/>
            <a:ext cx="9070920" cy="33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846000" indent="0" algn="ctr">
              <a:lnSpc>
                <a:spcPct val="87000"/>
              </a:lnSpc>
              <a:buNone/>
              <a:tabLst>
                <a:tab algn="l" pos="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990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 algn="ctr">
              <a:lnSpc>
                <a:spcPct val="87000"/>
              </a:lnSpc>
              <a:buNone/>
              <a:tabLst>
                <a:tab algn="l" pos="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990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n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 algn="ctr">
              <a:lnSpc>
                <a:spcPct val="87000"/>
              </a:lnSpc>
              <a:buNone/>
              <a:tabLst>
                <a:tab algn="l" pos="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990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 algn="ctr">
              <a:lnSpc>
                <a:spcPct val="54000"/>
              </a:lnSpc>
              <a:buNone/>
              <a:tabLst>
                <a:tab algn="l" pos="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990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ssion Time: 12: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 algn="ctr">
              <a:lnSpc>
                <a:spcPct val="54000"/>
              </a:lnSpc>
              <a:buNone/>
              <a:tabLst>
                <a:tab algn="l" pos="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990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 algn="ctr">
              <a:lnSpc>
                <a:spcPct val="54000"/>
              </a:lnSpc>
              <a:buNone/>
              <a:tabLst>
                <a:tab algn="l" pos="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990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Who is Dan Wil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86200" y="1828800"/>
            <a:ext cx="594360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9600"/>
                <a:tab algn="l" pos="496800"/>
                <a:tab algn="l" pos="954000"/>
                <a:tab algn="l" pos="1411200"/>
                <a:tab algn="l" pos="1868400"/>
                <a:tab algn="l" pos="2325600"/>
                <a:tab algn="l" pos="2782800"/>
                <a:tab algn="l" pos="3240000"/>
                <a:tab algn="l" pos="3697200"/>
                <a:tab algn="l" pos="4154400"/>
                <a:tab algn="l" pos="4611600"/>
                <a:tab algn="l" pos="5068800"/>
                <a:tab algn="l" pos="5526000"/>
                <a:tab algn="l" pos="5983200"/>
                <a:tab algn="l" pos="6440400"/>
                <a:tab algn="l" pos="6897600"/>
                <a:tab algn="l" pos="7354800"/>
                <a:tab algn="l" pos="7812000"/>
                <a:tab algn="l" pos="8269200"/>
                <a:tab algn="l" pos="8726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ldFusion Programmer since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9600"/>
                <a:tab algn="l" pos="496800"/>
                <a:tab algn="l" pos="954000"/>
                <a:tab algn="l" pos="1411200"/>
                <a:tab algn="l" pos="1868400"/>
                <a:tab algn="l" pos="2325600"/>
                <a:tab algn="l" pos="2782800"/>
                <a:tab algn="l" pos="3240000"/>
                <a:tab algn="l" pos="3697200"/>
                <a:tab algn="l" pos="4154400"/>
                <a:tab algn="l" pos="4611600"/>
                <a:tab algn="l" pos="5068800"/>
                <a:tab algn="l" pos="5526000"/>
                <a:tab algn="l" pos="5983200"/>
                <a:tab algn="l" pos="6440400"/>
                <a:tab algn="l" pos="6897600"/>
                <a:tab algn="l" pos="7354800"/>
                <a:tab algn="l" pos="7812000"/>
                <a:tab algn="l" pos="8269200"/>
                <a:tab algn="l" pos="8726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r of TACF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9600"/>
                <a:tab algn="l" pos="496800"/>
                <a:tab algn="l" pos="954000"/>
                <a:tab algn="l" pos="1411200"/>
                <a:tab algn="l" pos="1868400"/>
                <a:tab algn="l" pos="2325600"/>
                <a:tab algn="l" pos="2782800"/>
                <a:tab algn="l" pos="3240000"/>
                <a:tab algn="l" pos="3697200"/>
                <a:tab algn="l" pos="4154400"/>
                <a:tab algn="l" pos="4611600"/>
                <a:tab algn="l" pos="5068800"/>
                <a:tab algn="l" pos="5526000"/>
                <a:tab algn="l" pos="5983200"/>
                <a:tab algn="l" pos="6440400"/>
                <a:tab algn="l" pos="6897600"/>
                <a:tab algn="l" pos="7354800"/>
                <a:tab algn="l" pos="7812000"/>
                <a:tab algn="l" pos="8269200"/>
                <a:tab algn="l" pos="8726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log @ nodans.com, dzon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9600"/>
                <a:tab algn="l" pos="496800"/>
                <a:tab algn="l" pos="954000"/>
                <a:tab algn="l" pos="1411200"/>
                <a:tab algn="l" pos="1868400"/>
                <a:tab algn="l" pos="2325600"/>
                <a:tab algn="l" pos="2782800"/>
                <a:tab algn="l" pos="3240000"/>
                <a:tab algn="l" pos="3697200"/>
                <a:tab algn="l" pos="4154400"/>
                <a:tab algn="l" pos="4611600"/>
                <a:tab algn="l" pos="5068800"/>
                <a:tab algn="l" pos="5526000"/>
                <a:tab algn="l" pos="5983200"/>
                <a:tab algn="l" pos="6440400"/>
                <a:tab algn="l" pos="6897600"/>
                <a:tab algn="l" pos="7354800"/>
                <a:tab algn="l" pos="7812000"/>
                <a:tab algn="l" pos="8269200"/>
                <a:tab algn="l" pos="8726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ncipal Partner of DataCurl LLC: Home of TheHealthChalleng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9600"/>
                <a:tab algn="l" pos="496800"/>
                <a:tab algn="l" pos="954000"/>
                <a:tab algn="l" pos="1411200"/>
                <a:tab algn="l" pos="1868400"/>
                <a:tab algn="l" pos="2325600"/>
                <a:tab algn="l" pos="2782800"/>
                <a:tab algn="l" pos="3240000"/>
                <a:tab algn="l" pos="3697200"/>
                <a:tab algn="l" pos="4154400"/>
                <a:tab algn="l" pos="4611600"/>
                <a:tab algn="l" pos="5068800"/>
                <a:tab algn="l" pos="5526000"/>
                <a:tab algn="l" pos="5983200"/>
                <a:tab algn="l" pos="6440400"/>
                <a:tab algn="l" pos="6897600"/>
                <a:tab algn="l" pos="7354800"/>
                <a:tab algn="l" pos="7812000"/>
                <a:tab algn="l" pos="8269200"/>
                <a:tab algn="l" pos="8726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esenter at 360|Flex, CF.Objective(), CFUnited, Bfusion, Us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9600"/>
                <a:tab algn="l" pos="496800"/>
                <a:tab algn="l" pos="954000"/>
                <a:tab algn="l" pos="1411200"/>
                <a:tab algn="l" pos="1868400"/>
                <a:tab algn="l" pos="2325600"/>
                <a:tab algn="l" pos="2782800"/>
                <a:tab algn="l" pos="3240000"/>
                <a:tab algn="l" pos="3697200"/>
                <a:tab algn="l" pos="4154400"/>
                <a:tab algn="l" pos="4611600"/>
                <a:tab algn="l" pos="5068800"/>
                <a:tab algn="l" pos="5526000"/>
                <a:tab algn="l" pos="5983200"/>
                <a:tab algn="l" pos="6440400"/>
                <a:tab algn="l" pos="6897600"/>
                <a:tab algn="l" pos="7354800"/>
                <a:tab algn="l" pos="7812000"/>
                <a:tab algn="l" pos="8269200"/>
                <a:tab algn="l" pos="8726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rfer, Snowboarder, Volleyball play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9600"/>
                <a:tab algn="l" pos="496800"/>
                <a:tab algn="l" pos="954000"/>
                <a:tab algn="l" pos="1411200"/>
                <a:tab algn="l" pos="1868400"/>
                <a:tab algn="l" pos="2325600"/>
                <a:tab algn="l" pos="2782800"/>
                <a:tab algn="l" pos="3240000"/>
                <a:tab algn="l" pos="3697200"/>
                <a:tab algn="l" pos="4154400"/>
                <a:tab algn="l" pos="4611600"/>
                <a:tab algn="l" pos="5068800"/>
                <a:tab algn="l" pos="5526000"/>
                <a:tab algn="l" pos="5983200"/>
                <a:tab algn="l" pos="6440400"/>
                <a:tab algn="l" pos="6897600"/>
                <a:tab algn="l" pos="7354800"/>
                <a:tab algn="l" pos="7812000"/>
                <a:tab algn="l" pos="8269200"/>
                <a:tab algn="l" pos="8726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oor Typist, Poorer Guitar Play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9600"/>
                <a:tab algn="l" pos="496800"/>
                <a:tab algn="l" pos="954000"/>
                <a:tab algn="l" pos="1411200"/>
                <a:tab algn="l" pos="1868400"/>
                <a:tab algn="l" pos="2325600"/>
                <a:tab algn="l" pos="2782800"/>
                <a:tab algn="l" pos="3240000"/>
                <a:tab algn="l" pos="3697200"/>
                <a:tab algn="l" pos="4154400"/>
                <a:tab algn="l" pos="4611600"/>
                <a:tab algn="l" pos="5068800"/>
                <a:tab algn="l" pos="5526000"/>
                <a:tab algn="l" pos="5983200"/>
                <a:tab algn="l" pos="6440400"/>
                <a:tab algn="l" pos="6897600"/>
                <a:tab algn="l" pos="7354800"/>
                <a:tab algn="l" pos="7812000"/>
                <a:tab algn="l" pos="8269200"/>
                <a:tab algn="l" pos="8726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great steering wheel player... trust me!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0351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Why do I need a form libr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494160" cy="4989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43400" y="1784160"/>
            <a:ext cx="50292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you would like to create awesome forms in record time without writing HTML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you would like to keep your form markup consistent and feature-rich without reinventing the wheel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you aren't the best designer, but you want the best desig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you are in a hurry and need to get it done right and quick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What does CFUniform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3429000"/>
            <a:ext cx="927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581120"/>
            <a:ext cx="959976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882800"/>
            <a:ext cx="589752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s-compliant (XHTML Strict) form markup that is consistent across all common brow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51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uild your forms by writing ColdFusion, and not (x)HTML/C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51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grated error messages and message 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51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able paths for the supporting  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08640" y="1828800"/>
            <a:ext cx="3521160" cy="43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277920"/>
            <a:ext cx="90709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What does CFUniform do? (cont)</a:t>
            </a: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172200" cy="54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pport for common form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5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pport for custom blocks within your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5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ext Input (&lt;input type=”text” /&gt;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5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ssword Input (&lt;input type=”password” /&gt;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5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adio Buttons (&lt;input type=”radio” /&gt;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5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heckboxes (&lt;input type=”checkbox” /&gt;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5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cluding checkbox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5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extarea (&lt;textarea&gt;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5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lect (&lt;select&gt;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5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ptgroup (&lt;optgroup&gt;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5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ption (&lt;option&gt;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915240" y="2571840"/>
            <a:ext cx="291456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277920"/>
            <a:ext cx="90709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What does CFUniform do? (cont)</a:t>
            </a: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gration of useful jQuery plug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51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5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Validatio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5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ttp://docs.jquery.com/Plugins/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5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ate Picke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5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ttp://docs.jquery.com/UI/Datepi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5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ime Entry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5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ttp://keith-wood.name/timeEntr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5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put M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4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ttp://digitalbush.com/projects/masked-input-plug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972480" y="18288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How Much Does it Co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00800" y="1600200"/>
            <a:ext cx="3200400" cy="480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599840"/>
            <a:ext cx="566892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censed under the Apache License, Version 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wnloadable at http://cfuniform.riaforg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ed by Matt Quackenbu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4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quackfuzed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ff CSS/HTML by  Dragan Babi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4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sprawsm.com/uni-for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780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9320" cy="53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My Company: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ttp://www.datacur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My Blog: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ttp://www.nodans.com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Free account at The Health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ttp://thehealthchalleng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nvite Code: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arlyBird8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Wilson</dc:creator>
  <dc:description/>
  <dc:language>en-US</dc:language>
  <cp:lastModifiedBy>Dan Wilson</cp:lastModifiedBy>
  <cp:revision>0</cp:revision>
  <dc:subject/>
  <dc:title/>
</cp:coreProperties>
</file>